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0C287-C6B7-4132-8DF3-6CB547024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014A7-E258-47C9-9CA2-2FB056619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807E1-1063-402F-8460-25C71A5EC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FF48C-DF65-4D19-A880-55861FFB6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6CC19-28B0-4982-9848-FEDA9B980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4FF80-ADDB-4782-BF1F-8D31A3166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245D5-1B1E-4FCB-AC19-3EDF523A7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47A30-EBD3-4CD4-B659-32D945019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22D6B-AA07-45CF-B7BC-6C39904D8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96E3D-93A6-4D73-B877-DC7EBC067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36AB6-65F8-4700-B324-35677EFF7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885E6-8853-4EEF-B470-E1724D800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583A5-364F-4048-B97A-CF16B67764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3609360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d20000"/>
              </a:gs>
            </a:gsLst>
            <a:path path="rect">
              <a:fillToRect l="50000" t="50000" r="50000" b="50000"/>
            </a:path>
          </a:gradFill>
          <a:ln w="1047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                       اعزائى الموقرين نأسف على الازعاج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حرصا منا على المساهمة فى تطوير العمل والانجاز الدقيق والمصلحة المشتركة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نتشرف بعرض لبرنامج  الشؤون الإدارية ( المعـتمد )  حيث  يعمل البرنامج على تنفيذ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جميع الإجراءات الإدارية من خلال عدة بنود ادارية اساسية وهى كالتالى: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1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/  قاعدة بيانات لاستيعاب مالا نهاية من بيانات الموظفي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2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/ إدخال بيانات الموظف مرة واحدة بالبرنامج   &amp;  طباعة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جميع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النماذج الحكومية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بالبرنامج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على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ورق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ابي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3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/ إضافة موظف جديد -  تعديل بيانات موظف  - حذف موظف  - حذف الكل  - طباع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النماذج -  تحويل بيانات الموظف إلى الأرشيف  في حالة إنهاء خدمته  بالشرك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واستدعاء البيانات مرة أخرى في حالة تطلبت الحاجة  لبيانات الموظف واسترجاعه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4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/  كشوف الموظفين حسب : الجنسية - الراتب - المهنة - حسب القسم التابع له الموظف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حسب تاريخ الدخول -هويات الموظفين- حافظة مستندات الموظفين - صور الموظفي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5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/  الرواتب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: صرف الرواتب - كشف الرواتب حسب القسم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- احتساب الإضافي - الخصم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الغياب والخصم من الراتب  تلقائي - صرف الرواتب حسب موظف - كل الموظفين  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حسب الموظفين المسجل عليهم خصم فقط  -  الموظفين الذي لديهم خصم وإضافي معا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صرف الراتب حسب  بنك معين - أو فرع معين - احتساب مـدة ساعات غياب الموظف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وخصمها  من الراتب تلقائي - احتساب الإضافي على الراتب حسب ساعات العمل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أيام عادية -  أيام الجمعة -  أيام الأعياد - وكذلك الخصم - سندات صرف الرواتب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للموظفين  -  إيقاف صرف الراتب لموظفين معينين -  إلغاء إيقاف صرف  الراتب  -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البدلات -  احتساب بدل مواصلات  -  بدل سكن -   امكانية تحديد بدلات أخرى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6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/  احتساب نهاية الخدمة حسب قانون العمل :  من بداية تاريخ التعين الى الفترة التى يت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تحديدها  من قبل  المستخدم - لكل موظف على حدة - لكل الموظفين -  عمل ميزاني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مستحقات الموظفين  سنوية  - استلام المستحقات - قائمة العاملين  بالشركة – سند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صرف المستحقات  - خصم أيام الغياب واجازات على الحساب من مدة خدمة الموظف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تلقائي  -   تصنيف الموظفين  بصرف المستحقات   حسب الفئة  الأولى   -  الثاني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7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/  السلف :  طلب سلفة -  تحديد أقساط السلف -  خصم السلف من الراتب تلقائي  - إيقا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السلفة - تنشيط  خصم السلف لفترة محدودة - استعلام عن قيمة السلف لدى الموظفين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المتبقي لدى الموظفين من السلف - سلف أخر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8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/  الإجازات :   طلب أجازه  -  انتهاء الإجازات  -  أشعار عودة  -  احتساب آو خصم نوع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الاجازة من الرصيد  المستحق   تقارير تفصليه عن إجازات كل موظف  -  تقارير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إجازات كل الموظفين  -  أنواع الإجازات  - احتساب الإجازات التي على الحساب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وخصمها من  مستحقات نهاية الخدمة - خصم الإجازات المدفوعة من الرصيد - تنبيه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بانتهاء إجازات الموظفين - المتبقى من رصيد اجازات الموظف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9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/  ألا قامات : انتهاء ألا قامات خلال فترة  تحدد من المستخدم  -  تنبيه بانتهاء اقامات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الموظفين قبل فترة زمنية من الانتـها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10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/  الجوازات  :  تنبيه بانتهاء الجوازات قـبل فـترة زمنية من الانتهاء -  طلب استلام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الجوازات  -  جوازات لدى الموظفين - إقرار استلام الجواز - استعلام عن جوازات لدى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موظفين  -  استعلامات متعددة عن الجواز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11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/ النماذج الحكومية : الشؤون - الجوازات - المنافذ - التفتيش - عقد العمل - التجـــارة 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البلدية  - البصمات  - الصحة  - الزيارات التجارية :  إدخال بيانات الزيارات  -  مــد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الزيـارة  -   التنبيه بانتهاء الزيارة قبل أسبوع من الانتها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نماذج الشؤون :  إصدار إذن عمــل - إصـدار تصريح عمـل - تـجديد إ</a:t>
            </a:r>
            <a:r>
              <a:rPr b="1" lang="ar-KW" sz="2400" spc="-1" strike="noStrike">
                <a:solidFill>
                  <a:srgbClr val="ffffff"/>
                </a:solidFill>
                <a:latin typeface="Sultan normal"/>
              </a:rPr>
              <a:t>ذن عمل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- إلغـا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و تـحويل  - الغاء نهائى للسفر - عقد عمـ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نماذج الداخلية :  زيارة -  عدم ممانعة -  سمة مرور -   إقامة أول مرة  -  تجديد إقام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نقل إقامة   -  تمديد الاقامة – إلغاء نهائى - نموذج المنافذ - حركة الدخول والخرو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نماذج التجارة : نموذج فتح شركة -  تعديل شركة -  تأسيس -  فتح فرع  -  فتح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مؤسسة جديدة -  تعديل – تجديد رخصة - إضاف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نماذج التفتيش :  كشف الرواتب الشهرى  -  طلب إصدار شهادة تحويل أجور  -  عما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متغيبين -  عمال بإجاز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نماذج البلدية  :  انتهاء كرت الصحة - تجديد الشهادات الصحية للموظفين - تراخي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الإعلانات - الفحص الطب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نماذج البصمات  :  نظام الحصول على بصمة -  صحيفة الحالة للادلة -   بيانات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السوابق -  أخطار بصم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12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/  الحضور والانصراف :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تقارير عن كل موظف عـن عــدد ساعات التأخير يومي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وشهري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استعلام عن الحضور  والانصراف لكل موظف خلال فترة  -  كل الموظفين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خلال فترة   -   إمكانية  تركيب  جهــاز البصمة  بالبرنامج  تقارير متعددة عن حضور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وانصراف الموظفين - ترحيل عدد ساعات  التأخيرأو عدد أيام الغياب تلقائي بالبرنام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13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/  العهدة  :  أنواع العهدة  -  العهدة  المتوفرة لدي الموظفين  -  حالة العهد - أذن استلا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 وتسليم عهدة -  استعلام عن العه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14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/ تنبيه بانتهاء جميع التراخيص التجارية   -  اعتماد التوقيع   -  رخصة الاستيراد -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 اعتماد المرور  -  غرفة التجارة   شهادة  لجنة المناقصات  -   العمالة  الوطنية  -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 أخرى  -   استعلام بفترة زمنية عن تراخيص  ستنته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15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/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السيارات  : إدخال بيانات السيارات  -  تعديل  -  شركات التأمين  -  السائقين  -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 تنبيه بانتهاء التامين  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استعلام عن  أ نوع السيارات   -  استعلام عن السائقين   -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 استعلامات متنوعة   -  أنواع التأمين  - حالة السيارات  -  استلام وتسلي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15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- نظام الصلاحيات للمستخدمين  :   تحديد الصلاحيات لكل مستخدم  -  إضافة مستخدمي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حذف مستخدم  -  تغير  كلمة المرور –  تعديل وتغير صلاحيات المستخدمين من قبل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المسئول بأي وق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بالإضافة إلى البنود الفرعية المدرجة بالبرنامج والتقارير التفصيلية. سهوله  في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الاستخدام  وسرعة البحث إمكانية التعديل والإضافة على  البرنامج مع إمكانية عمل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البرنامج على الشبكة  -  إمكانية عمل نسخة  احتياطية من قاعدة البيانات  يدوى  أو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تلقائي بالإضافة إلى استرجاع قاعدة البيانات في حالة حدوث تلف آو عطل بالجها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آو فقدان البيانات من البرنامج   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0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البرنامج  مصمم بلغة الفيجوال بيسك  وقاعدة  البيانات بلغة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SQL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كفالة على البرنامج  وتدريب ودعم فنى                    (  البرنامج ثنائى اللغة  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كما يوجد شرح وافى على استخدام والتعامل مع نوافذ البرنامج بالصوت والصور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                     مع تحيات إم إس للحلول المتكاملة والبرمجي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        احدى فروع مجموعة سلطان السالم ومحمود عبدالله التجارية  ذ.م.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   دولة الكويت – حولى – شارع تونس – مقابل بنك الكويت والشرق الاوس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            ت: 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009652647029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&amp;     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00965602471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Sultan normal"/>
              </a:rPr>
              <a:t>msn_200@hotmail.com</a:t>
            </a:r>
            <a:r>
              <a:rPr b="1" lang="en-US" sz="2400" spc="-1" strike="noStrike">
                <a:solidFill>
                  <a:srgbClr val="ffffff"/>
                </a:solidFill>
                <a:latin typeface="Sultan normal"/>
              </a:rPr>
              <a:t>    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9T21:58:57Z</dcterms:created>
  <dc:creator> </dc:creator>
  <dc:description/>
  <dc:language>en-US</dc:language>
  <cp:lastModifiedBy> </cp:lastModifiedBy>
  <dcterms:modified xsi:type="dcterms:W3CDTF">2007-04-30T23:15:53Z</dcterms:modified>
  <cp:revision>8</cp:revision>
  <dc:subject/>
  <dc:title>عرض تقديمي من PowerPoint</dc:title>
</cp:coreProperties>
</file>